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822C-C771-408C-A837-B4C8E74A2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507E1-A6E0-4268-AE7C-DD60C108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19527-2464-4F1B-96E2-B745FFE0E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CE6A4-2FB8-441E-95E4-DAC7E9BE4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56BBE-E15F-4ED9-86D9-4267BB3E7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5E527-FCC3-40B1-A2C3-38577DC62A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9EFDA4-5E24-4716-A0CC-168FD0052B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550742-1A19-4630-80A0-B7BD6A1FCD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F53F1D-5A55-42C5-AED6-2C5EFED053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A59B293-D4FF-44E0-AE0C-7DF2F9DBAF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47183-DC27-4952-A12C-8FAB2BF82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43D63CB-E8FE-4E67-8881-BB32A1DB2C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093941-22E9-4B5D-A7B7-77D1FB38DB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49BFEC-8663-4F88-929E-92B5457098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704692-20B1-4A03-8166-AA5A567998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89E4BBB-BA48-43EA-BE22-65AE689421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9CC16C6-15CE-4306-800A-66154192F8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130A018-DF97-461C-93E7-14AC7123B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30FE-CD3B-4F02-B10D-C8DD0B37B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94AC-669A-4F99-9A9B-B0FE7569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6C1F3-E74F-4439-8F1C-8A52205EA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D141E-A687-4286-B3C7-4F212DFD7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4D95-B772-47F8-B881-141EC2D19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8BA45-8D29-4BD6-AAC0-6D8C74C38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7328-143E-4CC7-8924-F1770C1D717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037F-DF17-49AC-98E0-2F1C6CE438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3C6D-040B-40CC-951A-4DE5CC2BFB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CE0B-CD54-4CCC-BE3F-3B5595001E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3256-BF5F-471E-B3CC-4E43955BB7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5F7E-7E0B-43F3-B91A-88B362C34E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A658-D529-4363-92C0-1BBE32A35F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6CF8-E225-426D-9074-A291B8CF76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BFF5-076A-4B2C-8B63-D6743859FF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33D3-DC53-4AD9-AD01-CB2A55195F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6A9C-BB2D-4099-9568-9D43654001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558F-844E-4E61-8A9C-76E4B5F159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9AB8-3936-4D51-A51C-39DD18C03C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57C5-193C-41F6-9DD1-37D1BE8179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0B88-747A-459D-A8AA-76324D3B74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3B9F-7F1F-4937-8174-C99FB233B5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2B07-026A-44A2-B4D2-DCBD153C52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C7CB-CA6A-40CA-AEBF-5F54DCAC42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900C-507C-4E24-BBDC-6797C8097E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86AA-77CD-4419-859E-1EE4F3B2DA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A35D-CA8E-4A2D-92C3-C7EEE5B8A8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7C1C-712D-416A-8D6A-D42F5EEB0B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6DD9-C63C-46D8-93EC-63DD55817F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9705-AB3F-4362-BE83-F9E75870DE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DCAD-B00F-4699-A72D-73FCF7A512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E429-4974-472D-B0A2-C1ADAEF4F3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F9AB-0E5B-4540-BFBD-60F373FB0F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C9EB-FC64-42C6-9D64-55F1CE03BE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D494-899F-486A-93EE-1D66E9E2B3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B539-2782-4EBD-B8F9-F8AAD2FA81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2653-96B9-4E94-84E8-1A35A667CF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6848-28F9-4A73-B6D5-460329E31A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90F6-2AF3-4F37-A77A-3746FFBB59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AFBC-EE7C-4D5C-9E7A-BF33936C02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3C10-2F48-450C-BC89-3FA9E5E7C5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B33A-806E-49E8-98B5-5EB8F8BAA2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7C83-3833-413D-82E8-A4FAA03A5C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8125-68C5-406F-9738-83C286225A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511D-7481-4BF4-A4F7-37B2D03880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EA73-04AE-4764-81D8-D4D1277EA3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3F87-5BA5-480D-BBA1-DB442FEE8B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DE4A-DD25-4295-A6D2-057834B83A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1768-3534-4889-8654-BA3A5977A4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03F5-4BCD-4E9D-9B07-061AC60C06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C374-7507-48A0-BEA3-AF4E415F94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4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
          <p:cNvPicPr/>
          <p:nvPr/>
        </p:nvPicPr>
        <p:blipFill>
          <a:blip r:embed="rId1"/>
          <a:stretch/>
        </p:blipFill>
        <p:spPr>
          <a:xfrm>
            <a:off x="2805120" y="2357280"/>
            <a:ext cx="3533760" cy="667080"/>
          </a:xfrm>
          <a:prstGeom prst="rect">
            <a:avLst/>
          </a:prstGeom>
          <a:ln w="0">
            <a:noFill/>
          </a:ln>
        </p:spPr>
      </p:pic>
      <p:sp>
        <p:nvSpPr>
          <p:cNvPr id="34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5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76F4-39A8-4CC9-B64D-932805219C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54"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9498-7498-4D12-874B-0A4C7D1739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9D98-E7E0-4738-8212-55F3698857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4B5C-A682-4694-AB2E-3EC4204DCA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D53C-4481-4000-A168-08396D5D5A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F959-C63C-476C-8402-29B990D04C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2CB1-3992-4F1C-A3E2-D7893DDBDB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81E6-6A9A-459A-A4C9-D618CD2894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FA12-1976-4BBC-9266-014EA34CF7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83"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2A05-0D9B-4B49-95B2-9BB83372B0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D336-F2B7-4527-B778-32F01CA885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C15D-5228-41CD-945B-546F406FF9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528C-638E-4E94-8E89-4DE072C193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2" descr=""/>
          <p:cNvPicPr/>
          <p:nvPr/>
        </p:nvPicPr>
        <p:blipFill>
          <a:blip r:embed="rId1"/>
          <a:stretch/>
        </p:blipFill>
        <p:spPr>
          <a:xfrm>
            <a:off x="2805120" y="2357280"/>
            <a:ext cx="3533760" cy="667080"/>
          </a:xfrm>
          <a:prstGeom prst="rect">
            <a:avLst/>
          </a:prstGeom>
          <a:ln w="0">
            <a:noFill/>
          </a:ln>
        </p:spPr>
      </p:pic>
      <p:sp>
        <p:nvSpPr>
          <p:cNvPr id="40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782F-D8B5-4A34-9A3C-EB585EC842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991E-33F0-4DEF-A456-B0DC6A62B4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2" descr=""/>
          <p:cNvPicPr/>
          <p:nvPr/>
        </p:nvPicPr>
        <p:blipFill>
          <a:blip r:embed="rId1"/>
          <a:stretch/>
        </p:blipFill>
        <p:spPr>
          <a:xfrm>
            <a:off x="2805120" y="2357280"/>
            <a:ext cx="3533760" cy="667080"/>
          </a:xfrm>
          <a:prstGeom prst="rect">
            <a:avLst/>
          </a:prstGeom>
          <a:ln w="0">
            <a:noFill/>
          </a:ln>
        </p:spPr>
      </p:pic>
      <p:sp>
        <p:nvSpPr>
          <p:cNvPr id="41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48E1-AFB2-42EB-BFF3-86E33978A8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C8C2-D407-4177-94DD-72DC928489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1"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A05A-6CF1-4617-8309-700FBE5216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5"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707A-AE5C-4291-B740-17C54CFC4A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8" name=""/>
          <p:cNvGraphicFramePr/>
          <p:nvPr/>
        </p:nvGraphicFramePr>
        <p:xfrm>
          <a:off x="900000" y="1727280"/>
          <a:ext cx="7858080" cy="32925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9F20-A0A9-41D1-B3CB-2C54CC6FAB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2"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2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4F7B-5879-4EE0-B78F-C5EB267388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6" name="Picture 2" descr="Manual"/>
          <p:cNvPicPr/>
          <p:nvPr/>
        </p:nvPicPr>
        <p:blipFill>
          <a:blip r:embed="rId1"/>
          <a:stretch/>
        </p:blipFill>
        <p:spPr>
          <a:xfrm>
            <a:off x="6143760" y="1643040"/>
            <a:ext cx="2857320" cy="2143080"/>
          </a:xfrm>
          <a:prstGeom prst="rect">
            <a:avLst/>
          </a:prstGeom>
          <a:ln w="0">
            <a:noFill/>
          </a:ln>
        </p:spPr>
      </p:pic>
      <p:pic>
        <p:nvPicPr>
          <p:cNvPr id="437"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A619-3129-4AA9-B9FB-75C0F4AAE5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B45C-323B-48DA-A86C-3EDEF48081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07-21T18:25:26Z</dcterms:modified>
  <cp:revision>457</cp:revision>
  <dc:subject/>
  <dc:title>Agena Language Summary</dc:title>
</cp:coreProperties>
</file>