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88FDB-FECD-401F-8C1C-51D221A6F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6E99D-09B4-484A-9EC2-84D6FEEEC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EC80B-D7A0-4814-A905-EB7B335DC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ECE97-6919-423C-808E-FC1D73BFC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63408-601C-484F-8F7B-538C96385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E5CF91-4F65-4749-B413-DD2926B1D0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6A299E-94A6-403E-B707-E86B889E023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65200D5-30E3-4676-90AD-5AEE6C44AF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9A50BE-1945-47D8-B20A-30D0689B38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C83627B-7F71-4CDA-9144-17AE79628E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C7878-E2C0-4DF8-A471-EB8B6DE9A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88B48F0-606C-499B-97D5-A5B5AC2465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5AAFCC4-9D1E-4D9B-8471-E96A72D844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7C687C4-FEBA-4E9A-BC03-F1A2B6E27C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1CDDBE-AE12-4188-8309-A1C5753212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D7AC012-1C70-495C-AC21-14B48320FF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71C3DEC-C95B-4DBF-9821-5C60011DE2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E627335-BF12-4559-A799-764621FFFB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08CE3-9CA4-4A20-99A4-6D10DD292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A13A5-0C73-473B-ABB0-C5975DA1D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97C43-C08A-4DA9-944C-DFDEC1862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3D9B5-2E89-49CA-85AF-B2ADC2D05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0DDD2-ADD9-4D7B-8EFB-7A38FC057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5D7B-3F80-4D15-9C81-28B503506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420F-5D38-4635-9930-9B70965E7A6C}"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4D54-E5C2-46A6-B844-A93D251732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5BFF-872C-41E5-9908-95081B33EC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2A25-A58C-4EE4-B73A-2F47F616BF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99A6-9E3F-4552-A9B9-E579A1532B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3F38-83BC-4D37-80BD-1F7724D91A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DB7A-1319-49E8-9117-D42A620D60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F893-18C1-4016-8AE8-514FA8C593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B491-831F-4399-AF58-240D6957EA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90D5-35D5-4552-AA1C-ED8D738DC2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4CDF-8CB4-4F4E-B2DC-F6FA2CE6F3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759C-FD33-41AF-B870-E643390C6A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4F70-13D4-4603-9806-C34C71A046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B66A-D8AE-460E-BD5C-EA59BDEE91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DF16-D8AF-4DE1-853B-B851FA4F37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5B8B-5E11-45C1-85AF-3B9A90FE7A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E61F-9F7B-47C7-A8AF-D123BD0BA5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8818-8C95-4699-927C-67F1BE0ADF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A7E2-C841-4CB3-9E3D-DC03FE5C5D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CC95-E6B2-4985-8544-AF64B3D798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F6A7-638E-4EB5-9964-3637FB1FE9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DB8A-BAED-4894-B2C5-2527F6F4FA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E4E7-34DA-4556-8016-C7F0C0E893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CF25-5A7A-495B-8415-3CCCC3490B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39C5-CB0D-4082-A730-B2DAB3B827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3762-7E71-439C-A5CD-B280E3C116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F824-CBF3-4122-97DD-9ED2B6DA46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4B09-70EE-4DEC-86A9-CC8AABE963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8D45-24FE-4DFF-B605-C32BD2215B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C75E-13D9-4E6C-815C-FA14BD3AC3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4B84-C0D3-44D0-AA29-DD1A822E41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CBD7-BD41-4735-AF1C-9D9A904874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687A-90CA-4077-8CBB-47A358ECC4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36B8-7237-4CE1-9E91-1147BEA6E6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566E-8CE4-4C21-B2FC-2243E6879F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6814-F9F6-46A3-86B3-1B0BDADDF8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0BF5-8129-4152-957C-12B78FF510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53E2-053C-478D-9D89-CE88D2BA34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7C3C-2B48-4493-9A3E-61F5121E51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A9F1-8435-40A7-89E0-CF4695905D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D9E0-6A34-49BC-8082-49621BE2ED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611D-4110-426E-88D7-53D105B3BC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118D-6D29-49C0-A41C-A2EBE0C214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9A11-6157-4BF2-A293-7C0C53D0F8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477F-3ECE-474D-B340-85107255DA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17F8-451C-404C-A55D-B56800A6FC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9682-30A1-48AF-9D5C-4DF210DA1A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F4C9-D092-4DD7-B2C0-7D479F5E36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63C8-18CD-4884-96BE-8AF31B0B77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98FA-DFB2-403C-8C59-8DE2CD6BA2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BCDE-D597-4340-8D1D-5C4A7897F7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35D0-DB85-4D09-A341-C3C045B382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B2CB-816B-404F-8E27-2EC4BC4541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CDAF-8E84-4AA5-8440-B4E382762F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39EF-B8CF-4CE8-9770-0EB6BC51DD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1A59-72BB-402C-B4CF-C612042848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B68A-4EEA-4F15-9540-0E33950B1F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ADC8-3AE4-4B2B-BB68-46E7D48A60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78E4-0083-43CA-8A72-4C1B68FFE2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B3AA-E403-49E5-A05B-265D5DD024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99F0-767D-495A-9DB4-5836DAD533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93EC-3CCA-4209-8ACD-98D3D70454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6902-5206-4FE0-8CF5-E3FF571F01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CDF5-5C2F-4F96-8A59-47AA2C649F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C48F-F359-4C46-A177-3FFCFB4290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CF5F-5B8D-4FC0-A9EE-A403C7C9D0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402264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1894-048B-4095-8820-910E0C6AC9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71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C5C0-8E94-45DD-B3C5-C3A33096C0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D180-56FA-4D71-9AA0-CC893F9C08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F84D-24C6-4099-BE32-C091EBF4B1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2-26T10:24:54Z</dcterms:modified>
  <cp:revision>479</cp:revision>
  <dc:subject/>
  <dc:title>Agena Language Summary</dc:title>
</cp:coreProperties>
</file>