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7640" y="354492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7640" y="354492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9360" y="354492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272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816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764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272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816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77640" y="141588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77640" y="354492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9360" y="354492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9360" y="14158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77640" y="354492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ae1b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7640" y="141588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1663200"/>
            <a:ext cx="8686800" cy="321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ae1b"/>
                </a:solidFill>
                <a:latin typeface="Arial"/>
              </a:rPr>
              <a:t>Component Pascal on .NET</a:t>
            </a:r>
            <a:br>
              <a:rPr sz="4800"/>
            </a:br>
            <a:br>
              <a:rPr sz="3600"/>
            </a:br>
            <a:r>
              <a:rPr b="1" lang="en-US" sz="3600" spc="-1" strike="noStrike">
                <a:solidFill>
                  <a:srgbClr val="f3ce91"/>
                </a:solidFill>
                <a:latin typeface="Arial"/>
              </a:rPr>
              <a:t>John Gough and Paul Ro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3ce91"/>
                </a:solidFill>
                <a:latin typeface="Arial"/>
              </a:rPr>
              <a:t>PLASRC </a:t>
            </a:r>
            <a:br>
              <a:rPr sz="3600"/>
            </a:br>
            <a:r>
              <a:rPr b="1" lang="en-US" sz="3600" spc="-1" strike="noStrike">
                <a:solidFill>
                  <a:srgbClr val="f3ce91"/>
                </a:solidFill>
                <a:latin typeface="Arial"/>
              </a:rPr>
              <a:t>QUT, Brisbane, Australia</a:t>
            </a:r>
            <a:endParaRPr b="1" lang="en-US" sz="3600" spc="-1" strike="noStrike">
              <a:solidFill>
                <a:srgbClr val="f2ae1b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2068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ae1b"/>
                </a:solidFill>
                <a:latin typeface="Arial"/>
              </a:rPr>
              <a:t>The Programming Languages and Systems Research Center at QUT</a:t>
            </a: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415360" cy="171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nent Tech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uster Compu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nguage Design and Implem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763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ae1b"/>
                </a:solidFill>
                <a:latin typeface="Arial"/>
              </a:rPr>
              <a:t>What is Component Pascal?</a:t>
            </a: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415360" cy="2741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cal-family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erset of Oberon-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: modules, objects,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tional annotations for enhanced static checking and type safe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312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ae1b"/>
                </a:solidFill>
                <a:latin typeface="Arial"/>
              </a:rPr>
              <a:t>Gardens Point </a:t>
            </a:r>
            <a:br>
              <a:rPr sz="4800"/>
            </a:br>
            <a:r>
              <a:rPr b="1" lang="en-US" sz="4800" spc="-1" strike="noStrike">
                <a:solidFill>
                  <a:srgbClr val="f2ae1b"/>
                </a:solidFill>
                <a:latin typeface="Arial"/>
              </a:rPr>
              <a:t>Component Pascal</a:t>
            </a: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415360" cy="3618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iler is implemented in Component Pasc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es either .NET code or jvm bytecodes, bootstraps on ei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put code is verifiable and CLS conforma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od runtime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ae1b"/>
                </a:solidFill>
                <a:latin typeface="Arial"/>
              </a:rPr>
              <a:t>The Compiler</a:t>
            </a: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67200" y="3960720"/>
            <a:ext cx="2438640" cy="838440"/>
          </a:xfrm>
          <a:prstGeom prst="rect">
            <a:avLst/>
          </a:prstGeom>
          <a:gradFill rotWithShape="0">
            <a:gsLst>
              <a:gs pos="0">
                <a:srgbClr val="6e3f05"/>
              </a:gs>
              <a:gs pos="100000">
                <a:srgbClr val="ef890d"/>
              </a:gs>
            </a:gsLst>
            <a:lin ang="5400000"/>
          </a:gradFill>
          <a:ln w="12600">
            <a:solidFill>
              <a:srgbClr val="ef8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ltern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Code Gen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50292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66800" y="5337000"/>
            <a:ext cx="2514600" cy="911520"/>
          </a:xfrm>
          <a:prstGeom prst="rect">
            <a:avLst/>
          </a:prstGeom>
          <a:gradFill rotWithShape="0">
            <a:gsLst>
              <a:gs pos="0">
                <a:srgbClr val="5a2c52"/>
              </a:gs>
              <a:gs pos="100000">
                <a:srgbClr val="c561b2"/>
              </a:gs>
            </a:gsLst>
            <a:lin ang="5400000"/>
          </a:gradFill>
          <a:ln w="12600">
            <a:solidFill>
              <a:srgbClr val="c561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ila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66800" y="2624040"/>
            <a:ext cx="2514600" cy="808200"/>
          </a:xfrm>
          <a:prstGeom prst="rect">
            <a:avLst/>
          </a:prstGeom>
          <a:gradFill rotWithShape="0">
            <a:gsLst>
              <a:gs pos="0">
                <a:srgbClr val="183b5e"/>
              </a:gs>
              <a:gs pos="100000">
                <a:srgbClr val="3681cc"/>
              </a:gs>
            </a:gsLst>
            <a:lin ang="5400000"/>
          </a:gradFill>
          <a:ln w="12600">
            <a:solidFill>
              <a:srgbClr val="368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Type Chec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66800" y="1490760"/>
            <a:ext cx="2514600" cy="807840"/>
          </a:xfrm>
          <a:prstGeom prst="rect">
            <a:avLst/>
          </a:prstGeom>
          <a:gradFill rotWithShape="0">
            <a:gsLst>
              <a:gs pos="0">
                <a:srgbClr val="183b5e"/>
              </a:gs>
              <a:gs pos="100000">
                <a:srgbClr val="3681cc"/>
              </a:gs>
            </a:gsLst>
            <a:lin ang="5400000"/>
          </a:gradFill>
          <a:ln w="12600">
            <a:solidFill>
              <a:srgbClr val="368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66800" y="3990960"/>
            <a:ext cx="2514600" cy="808200"/>
          </a:xfrm>
          <a:prstGeom prst="rect">
            <a:avLst/>
          </a:prstGeom>
          <a:gradFill rotWithShape="0">
            <a:gsLst>
              <a:gs pos="0">
                <a:srgbClr val="183b5e"/>
              </a:gs>
              <a:gs pos="100000">
                <a:srgbClr val="3681cc"/>
              </a:gs>
            </a:gsLst>
            <a:lin ang="5400000"/>
          </a:gradFill>
          <a:ln w="12600">
            <a:solidFill>
              <a:srgbClr val="368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Code Gen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0" idx="2"/>
            <a:endCxn id="49" idx="0"/>
          </p:cNvCxnSpPr>
          <p:nvPr/>
        </p:nvCxnSpPr>
        <p:spPr>
          <a:xfrm>
            <a:off x="2923920" y="2298600"/>
            <a:ext cx="1080" cy="326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53" name=""/>
          <p:cNvCxnSpPr>
            <a:stCxn id="49" idx="2"/>
            <a:endCxn id="51" idx="0"/>
          </p:cNvCxnSpPr>
          <p:nvPr/>
        </p:nvCxnSpPr>
        <p:spPr>
          <a:xfrm>
            <a:off x="2923920" y="3432240"/>
            <a:ext cx="1080" cy="559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54" name=""/>
          <p:cNvCxnSpPr>
            <a:stCxn id="51" idx="2"/>
            <a:endCxn id="48" idx="0"/>
          </p:cNvCxnSpPr>
          <p:nvPr/>
        </p:nvCxnSpPr>
        <p:spPr>
          <a:xfrm>
            <a:off x="2923920" y="4799160"/>
            <a:ext cx="1080" cy="538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55" name=""/>
          <p:cNvCxnSpPr>
            <a:endCxn id="50" idx="0"/>
          </p:cNvCxnSpPr>
          <p:nvPr/>
        </p:nvCxnSpPr>
        <p:spPr>
          <a:xfrm>
            <a:off x="2923920" y="1066680"/>
            <a:ext cx="1080" cy="424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56" name=""/>
          <p:cNvSpPr/>
          <p:nvPr/>
        </p:nvSpPr>
        <p:spPr>
          <a:xfrm>
            <a:off x="2962440" y="3656160"/>
            <a:ext cx="3124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6520" y="3656160"/>
            <a:ext cx="0" cy="304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85560" y="9907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C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8" idx="2"/>
          </p:cNvCxnSpPr>
          <p:nvPr/>
        </p:nvCxnSpPr>
        <p:spPr>
          <a:xfrm>
            <a:off x="2924280" y="6248160"/>
            <a:ext cx="2160" cy="424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60" name=""/>
          <p:cNvSpPr/>
          <p:nvPr/>
        </p:nvSpPr>
        <p:spPr>
          <a:xfrm>
            <a:off x="3082680" y="632448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.exe/.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763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ae1b"/>
                </a:solidFill>
                <a:latin typeface="Arial"/>
              </a:rPr>
              <a:t>Targeting the .NET Runtime</a:t>
            </a: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415360" cy="258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tract machine is simple to tar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ols make compiler development conven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-alone verifier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everif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akes debugging code generator a sn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763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ae1b"/>
                </a:solidFill>
                <a:latin typeface="Arial"/>
              </a:rPr>
              <a:t>Future Work …</a:t>
            </a:r>
            <a:endParaRPr b="1" lang="en-US" sz="4800" spc="-1" strike="noStrike">
              <a:solidFill>
                <a:srgbClr val="f2ae1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819160"/>
            <a:ext cx="8415360" cy="266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 library interface genera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 parametric polymorphism (generic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iler is “open source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2ae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plasrc.qut.edu.au/ComponentPasc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rand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9T02:04:21Z</dcterms:created>
  <dc:creator>Your Name</dc:creator>
  <dc:description>Template Design:  Linn Denesti, Silver_Fox Productions
Template set-up: Polly Macomber, SFP</dc:description>
  <dc:language>en-US</dc:language>
  <cp:lastModifiedBy>gough</cp:lastModifiedBy>
  <dcterms:modified xsi:type="dcterms:W3CDTF">2000-07-11T15:13:49Z</dcterms:modified>
  <cp:revision>36</cp:revision>
  <dc:subject>PDC</dc:subject>
  <dc:title>Title Of Presentation   Speaker name Title Department Microsoft Corporation</dc:title>
</cp:coreProperties>
</file>